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E220-A8C7-498B-BAC0-81EFE114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DCB-F4D5-46F2-9955-0785359B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08A6-AEDA-4F88-BBE8-519FB472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478-E994-4073-8589-494F7901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AB88-AB07-4E33-8ED5-3144B1F3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CF4-6B3C-425A-B00D-D1F25BC8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387C-EA99-4A87-ADA8-5EC16D26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CFB7-9C1D-40AA-91D3-0AEB83CE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18AE-E08A-43B4-B168-AA26EE47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041F-AD78-43C7-9F45-E0335A48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6CE1-495D-4658-9329-4F1679AD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9DA6-60D5-4DC4-9730-7C09639E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55A6-B1CD-4220-8DA2-80A716539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2286000" y="269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aph the line y=3/4x+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ris Kirchn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21:10:01Z</dcterms:created>
  <dc:creator>stolerma</dc:creator>
  <dc:description/>
  <dc:language>en-US</dc:language>
  <cp:lastModifiedBy>stolerma</cp:lastModifiedBy>
  <dcterms:modified xsi:type="dcterms:W3CDTF">2009-11-06T21:54:46Z</dcterms:modified>
  <cp:revision>5</cp:revision>
  <dc:subject/>
  <dc:title>Slide 1</dc:title>
</cp:coreProperties>
</file>